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1858-EACD-418B-8362-621D63385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877A-5403-48E8-A0EB-446C19ED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EFA6-8F26-4CB9-856F-B3816E4F6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8997-E9E1-4AB6-93D0-6ED145E1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527F-E932-4B55-871D-FD0AB509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B03D-2412-451B-B817-A8C2148E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37C4-FAF4-481A-8AFC-51357E52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BF4E-C233-4522-8E2A-E9BE8872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9BC2-3642-4B5E-9F5F-0593B052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5CC9-ED73-4447-B6CD-BDDC88F9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F05F-1AD7-4EF1-881F-4550730A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CC6B-10D8-4D10-9EC1-F5CE818F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7853-0735-4B9B-B379-358F9B6BF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382160" cy="819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3008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známky: 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  obrázek s logy je třeba umístit do záhlaví každého slidu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  do prezentace není možno umístit loga jiných subjek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2:09:00Z</dcterms:created>
  <dc:creator>pekarj</dc:creator>
  <dc:description/>
  <dc:language>en-US</dc:language>
  <cp:lastModifiedBy>pekarj</cp:lastModifiedBy>
  <dcterms:modified xsi:type="dcterms:W3CDTF">2009-08-14T05:40:16Z</dcterms:modified>
  <cp:revision>2</cp:revision>
  <dc:subject/>
  <dc:title>Poznámka: obrázek s logy je třeba umístit do záhlaví každého slidu</dc:title>
</cp:coreProperties>
</file>